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97E17-284F-421D-B5D9-84A134751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F4CA2-0BC8-4976-8DEB-C60AEBA87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53C8F-6ECC-4AEE-B16E-A5AE4DB42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939C9-6882-405E-83C2-A5EB0AF9B2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C5E7F9-1AF2-48D7-9492-E937E63784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CC6CF-811D-48E4-B8BF-FD9F7904B8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0B81A-65BA-424A-9CE6-8CA6D4BB6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650A7E-A03E-4DB3-9EA1-59B34EA2B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41B09-C312-4AD1-A83B-41EE20FC0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57CE8-5133-46F7-A043-E237083B8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C5D31-2EF6-4A39-8098-23455C5C5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7C359-7ECF-4CB4-A874-E18575108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9F0BD-D98C-47AD-8730-CD8FC20CB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21574-C210-4FA7-ABEC-CE3B99F6B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531EE-EB49-4643-BE9C-9BDF3007D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704C22-A684-499E-AFDC-0ED8EA3AA5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8D2FC9-E5B0-4072-873F-BAF66605A7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342B8F-4756-44D5-B5F5-D54C40636B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6743D0-C8A4-46F5-928D-CDA50B858D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B8EE9A-C574-4DBD-8D29-D6FB3EBADB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8D7DD0-E205-4BA1-B37F-E10F4C74B6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68D213-4E8E-4261-ACD9-030748409B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BF4FB-9593-41A4-B367-91EB8F847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9A3C7E-304A-4AB5-A81E-2FC714A991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9892C5-7EDD-446A-A92C-DBD8AF9B02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5CB4DC-F3CE-4F99-B0ED-5A09F2FE77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92E98A-3CC9-4638-80D7-1B3D07510F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56B161-70BC-4D80-979B-9289EEF626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61F780-AB8B-4CD9-84E9-4B83E61B30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4058E3-C165-4A13-9B3E-0B22A7DD91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8D9ED3-3600-47C4-AB3B-21739BE489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928276-6265-42FD-9E59-A29FB6C642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301735-375C-4B73-9B28-F59BEB76F4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CD468-9858-4D9A-A3F9-EF8D9DE50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2AF57D-6928-4C9C-95C7-E8BFB87D1A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0FFD8A-1667-4E3E-B925-C4882E6B5F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BDE56C-5491-4A39-962F-579AEA76C2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533C05-46A8-45BD-828A-B473C15BF9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664365-516B-4FFA-9DB8-10B9FB9B57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119871-D6DF-40CA-963F-18DF415B4C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9A941F-4367-415C-A935-2F08761150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140355-54DD-43FD-A7A9-7FA3F075ED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116EDA-5906-4271-A2FB-0916E5B8B8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0BDB1-01ED-44D2-BFD9-4660F8939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E8E1F-ADA9-42B9-A9B8-C653CDFC9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7D219-6B01-4C6D-9F0D-AD04CA0A7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173EB-7E4B-4ED2-BFF5-DFE663888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2DEDC-9B8F-4158-B725-CD90BB8ED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C2186-58AE-4844-8AB7-64BB06512A9A}"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2D011-EC30-424D-8D5C-DA381676DFBD}"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16835-F8DB-45FF-A4B8-E0D0AC5B3A56}"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78E76-CEB7-4C0B-A8AD-C562360738E6}"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93280" y="2427120"/>
            <a:ext cx="7194600" cy="215280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4800" spc="-1" strike="noStrike">
                <a:solidFill>
                  <a:srgbClr val="90c226"/>
                </a:solidFill>
                <a:latin typeface="Bahnschrift SemiBold"/>
              </a:rPr>
              <a:t>PROCEDIMIENTO ADMINISTRATIVO </a:t>
            </a:r>
            <a:br>
              <a:rPr sz="4800"/>
            </a:br>
            <a:r>
              <a:rPr b="1" i="1" lang="es-AR" sz="4800" spc="-1" strike="noStrike">
                <a:solidFill>
                  <a:srgbClr val="90c226"/>
                </a:solidFill>
                <a:latin typeface="Bahnschrift SemiBold"/>
              </a:rPr>
              <a:t>DE CAPTACIÓN </a:t>
            </a:r>
            <a:br>
              <a:rPr sz="4800"/>
            </a:br>
            <a:r>
              <a:rPr b="1" i="1" lang="es-AR" sz="4800" spc="-1" strike="noStrike">
                <a:solidFill>
                  <a:srgbClr val="90c226"/>
                </a:solidFill>
                <a:latin typeface="Bahnschrift SemiBold"/>
              </a:rPr>
              <a:t>DEL DATO DE CONTENIDO FISCAL</a:t>
            </a:r>
            <a:endParaRPr b="0" lang="en-US" sz="4800" spc="-1" strike="noStrike">
              <a:solidFill>
                <a:srgbClr val="90c226"/>
              </a:solidFill>
              <a:latin typeface="Trebuchet MS"/>
            </a:endParaRPr>
          </a:p>
        </p:txBody>
      </p:sp>
      <p:sp>
        <p:nvSpPr>
          <p:cNvPr id="213" name="CuadroTexto 1"/>
          <p:cNvSpPr/>
          <p:nvPr/>
        </p:nvSpPr>
        <p:spPr>
          <a:xfrm>
            <a:off x="1765440" y="5149800"/>
            <a:ext cx="5035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Dr. Jorge Matinata</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056280" cy="63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VICIOS DE NULIDAD</a:t>
            </a:r>
            <a:endParaRPr b="0" lang="en-US" sz="3200" spc="-1" strike="noStrike">
              <a:solidFill>
                <a:srgbClr val="90c226"/>
              </a:solidFill>
              <a:latin typeface="Trebuchet MS"/>
            </a:endParaRPr>
          </a:p>
        </p:txBody>
      </p:sp>
      <p:sp>
        <p:nvSpPr>
          <p:cNvPr id="232" name=""/>
          <p:cNvSpPr txBox="1"/>
          <p:nvPr/>
        </p:nvSpPr>
        <p:spPr>
          <a:xfrm>
            <a:off x="609480" y="1239480"/>
            <a:ext cx="6826320" cy="50036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VICIOS DE LA VOLUNTAD (motivo viciado): es un presupuesto del acto, no un elemento (error esencial –otorga subsidio por encima del tope legal-, dolo –cohecho-, violencia –física o moral-, simulación –antedatar un acto-, hechos nuevos); la voluntad del estado es objetiva (teoría del órgan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VICIOS DEL ACTO EMITIDO CON FALLAS EN LOS ELEMENTOS COMPETENCIA, CAUSA, PROCEDIMIENTO, MOTIVACIÓN, OBJETO, FINALIDAD Y FORMA.-</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IRREGULAR</a:t>
            </a:r>
            <a:r>
              <a:rPr b="0" lang="en-US" sz="1800" spc="-1" strike="noStrike">
                <a:solidFill>
                  <a:srgbClr val="404040"/>
                </a:solidFill>
                <a:latin typeface="Trebuchet MS"/>
              </a:rPr>
              <a:t>: NULIDAD ABSOLUTA – revocado por ilegitimidad.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REGULAR</a:t>
            </a:r>
            <a:r>
              <a:rPr b="0" lang="en-US" sz="1800" spc="-1" strike="noStrike">
                <a:solidFill>
                  <a:srgbClr val="404040"/>
                </a:solidFill>
                <a:latin typeface="Trebuchet MS"/>
              </a:rPr>
              <a:t>: genera derechos incorporados al patrimonio. No puede ser revocado en sede administrativa (principio de estabilidad), si sede judicial (por lesividad), salvo conocimiento del vicio (revoca sede administrativ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38200" y="801720"/>
            <a:ext cx="6740640" cy="54547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SANEAMIENTO</a:t>
            </a: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Ratificación: por superior.-</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Confirmación: por quién lo dict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3.- Conversión: Saneamiento de un acto nulo con consentimiento del administrad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CADUCIDAD</a:t>
            </a:r>
            <a:r>
              <a:rPr b="0" lang="en-US" sz="1800" spc="-1" strike="noStrike">
                <a:solidFill>
                  <a:srgbClr val="404040"/>
                </a:solidFill>
                <a:latin typeface="Trebuchet MS"/>
              </a:rPr>
              <a:t>: Elementos no esenciales (caducidad del acto):</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INTERESADO NO CUMPLE CONDICIÓN EN PLAZ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VÍAS DE HECHO</a:t>
            </a:r>
            <a:r>
              <a:rPr b="0" lang="en-US" sz="1800" spc="-1" strike="noStrike">
                <a:solidFill>
                  <a:srgbClr val="404040"/>
                </a:solidFill>
                <a:latin typeface="Trebuchet MS"/>
              </a:rPr>
              <a:t>: comportamiento material ilegítimo de la administración.-</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 FISCALIZACIÓN TRIBUTARIA</a:t>
            </a:r>
            <a:endParaRPr b="0" lang="en-US" sz="3600" spc="-1" strike="noStrike">
              <a:solidFill>
                <a:srgbClr val="90c226"/>
              </a:solidFill>
              <a:latin typeface="Trebuchet MS"/>
            </a:endParaRPr>
          </a:p>
        </p:txBody>
      </p:sp>
      <p:sp>
        <p:nvSpPr>
          <p:cNvPr id="235" name=""/>
          <p:cNvSpPr txBox="1"/>
          <p:nvPr/>
        </p:nvSpPr>
        <p:spPr>
          <a:xfrm>
            <a:off x="609480" y="1929960"/>
            <a:ext cx="6958080" cy="46148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Acto Administrativo que designa inspector y supervisor para fiscalizar contribuyente.-</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cto que ordena la intervención (inicio de fiscalización) notificado en el domicilio del contribuyente (elementos: art. 190 Ley 27430 –agregado al art. 36, 11.683-, TFN “Banca de Junín”, CCAF, Sala I “Serv. Parana” 7/05/2015).-</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Procedimiento Inquisitivo: Actas de requerimientos (plazos, prorrogabilidad).-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ctas de constatación de requerimientos y de la conducta del contribuyente (CSJN “Guido”, “Gambaro”; presunción de legitimidad vs fe pública: art. 12 ley 19.549, acto público arts. 289 inc. b, 310, 311 y 312 CCC y art. 187 ley 27.430, sustituye 2° párrafo art. 35 inc. f ley 11.683 -fe pública del acta de constat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Diferencia de verific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Informe final (acto preparatorio).-</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Actas requerimiento y constatación</a:t>
            </a:r>
            <a:endParaRPr b="0" lang="en-US" sz="36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1.- Instrumentos preconstitutivos de prueba (fe pública solo actos auténticos, pero no los autenticados).-</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2.- </a:t>
            </a:r>
            <a:r>
              <a:rPr b="0" lang="en-US" sz="1800" spc="-1" strike="noStrike" u="sng">
                <a:solidFill>
                  <a:srgbClr val="404040"/>
                </a:solidFill>
                <a:uFillTx/>
                <a:latin typeface="Verdana"/>
                <a:ea typeface="Times New Roman"/>
              </a:rPr>
              <a:t>Requisitos</a:t>
            </a:r>
            <a:r>
              <a:rPr b="0" lang="en-US" sz="1800" spc="-1" strike="noStrike">
                <a:solidFill>
                  <a:srgbClr val="404040"/>
                </a:solidFill>
                <a:latin typeface="Verdana"/>
                <a:ea typeface="Times New Roman"/>
              </a:rPr>
              <a:t>: Arts. 2 (integración analógica), 310 (constatar hechos), 311 (garantizar el derecho a defensa) y 312 (validez probatoria entre apertura y cierre) del CCC.-</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609120"/>
            <a:ext cx="691056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90c226"/>
                </a:solidFill>
                <a:latin typeface="Trebuchet MS"/>
              </a:rPr>
              <a:t>EL PROCEDIMIENTO DE NATURALEZA INQUISITIVA FRENTE A LAS GARANTÍAS DEL CONTRIBUYENTE </a:t>
            </a:r>
            <a:r>
              <a:rPr b="1" i="1" lang="es-AR" sz="2400" spc="-1" strike="noStrike">
                <a:solidFill>
                  <a:srgbClr val="90c226"/>
                </a:solidFill>
                <a:latin typeface="Trebuchet MS"/>
              </a:rPr>
              <a:t>– EL PLAZO DE LA INSPECCIÓN.-</a:t>
            </a:r>
            <a:br>
              <a:rPr sz="2800"/>
            </a:br>
            <a:endParaRPr b="0" lang="en-US" sz="2400" spc="-1" strike="noStrike">
              <a:solidFill>
                <a:srgbClr val="90c226"/>
              </a:solidFill>
              <a:latin typeface="Trebuchet MS"/>
            </a:endParaRPr>
          </a:p>
        </p:txBody>
      </p:sp>
      <p:sp>
        <p:nvSpPr>
          <p:cNvPr id="239" name=""/>
          <p:cNvSpPr txBox="1"/>
          <p:nvPr/>
        </p:nvSpPr>
        <p:spPr>
          <a:xfrm>
            <a:off x="890640" y="2520720"/>
            <a:ext cx="68580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Principio General</a:t>
            </a:r>
            <a:r>
              <a:rPr b="0" lang="en-US" sz="1700" spc="-1" strike="noStrike">
                <a:solidFill>
                  <a:srgbClr val="404040"/>
                </a:solidFill>
                <a:latin typeface="Trebuchet MS"/>
              </a:rPr>
              <a:t>: Autodeclaración por DDJJ (obligación de hacer y de dar).</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Control de DDJJ</a:t>
            </a:r>
            <a:r>
              <a:rPr b="0" lang="en-US" sz="1700" spc="-1" strike="noStrike">
                <a:solidFill>
                  <a:srgbClr val="404040"/>
                </a:solidFill>
                <a:latin typeface="Trebuchet MS"/>
              </a:rPr>
              <a:t>: ejercicio del poder de ordenación y regulación estatal en materia tributaria.-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Efectos</a:t>
            </a:r>
            <a:r>
              <a:rPr b="0" lang="en-US" sz="1700" spc="-1" strike="noStrike">
                <a:solidFill>
                  <a:srgbClr val="404040"/>
                </a:solidFill>
                <a:latin typeface="Trebuchet MS"/>
              </a:rPr>
              <a:t>: DDJJ sujeta a verificación de la administración (Deber de soportar, obligación de colaboración, deber de no hacer, poder de policía fiscal: ordenación, regulación, control, impugnación DDJJ, cuantificación verdad material y/o presunciones legales, sanción, recursos).-</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Garantías involucradas</a:t>
            </a:r>
            <a:r>
              <a:rPr b="0" lang="en-US" sz="1700" spc="-1" strike="noStrike">
                <a:solidFill>
                  <a:srgbClr val="404040"/>
                </a:solidFill>
                <a:latin typeface="Trebuchet MS"/>
              </a:rPr>
              <a:t>: Trabajar (clausura), Propiedad (multas), actividad lícita (HI por actividades prohibidas), debido proceso adjetivo y sustantivo (con anclaje en arts. 4, 14, 16, 17, 18, 19, 28, 31, 33, 43, 52, 75 inc. 1, 2, 4, 7, 8, 18, 19, 22, 30; art. 99 inc. 3, cláusula transitoria 8va. C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61960" y="775800"/>
            <a:ext cx="7113600" cy="54435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Pesa sobre el contribuyente la obligación de no hacer (no obstaculizar la fiscalización</a:t>
            </a:r>
            <a:r>
              <a:rPr b="0" lang="es-AR" sz="1800" spc="-1" strike="noStrike">
                <a:solidFill>
                  <a:srgbClr val="404040"/>
                </a:solidFill>
                <a:latin typeface="Trebuchet MS"/>
              </a:rPr>
              <a:t>: caso contrario Acta y sumario por resistencia pasiva).-</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Deber de colaboración</a:t>
            </a:r>
            <a:r>
              <a:rPr b="0" lang="es-AR" sz="1800" spc="-1" strike="noStrike">
                <a:solidFill>
                  <a:srgbClr val="404040"/>
                </a:solidFill>
                <a:latin typeface="Trebuchet MS"/>
              </a:rPr>
              <a:t>: deber de soportar por parte del contribuy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Caso CNCP “Florido” 6/10/06 distingue deber de colaboración con prohibición de autoincriminación</a:t>
            </a:r>
            <a:r>
              <a:rPr b="0" lang="es-AR" sz="1800" spc="-1" strike="noStrike">
                <a:solidFill>
                  <a:srgbClr val="404040"/>
                </a:solidFill>
                <a:latin typeface="Trebuchet MS"/>
              </a:rPr>
              <a:t>: no puede invocarse cuando la exhibición de libros es requerida por atribuciones de control establecidas en ley.-</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Antecedentes “Saunders vs UK”; “Funke vs. Fr.”; “Rozas” Trib. Constitucional Español, consagra el deber de soportar por interés público. “Boyd vs. US” sigue Saunders; “Shapiro” consagra el ejercicio del poder de policía para regulación y control (citado por CNCP “Florido”); “Fisher” distingue el derecho a no declarar contra si mismo, de la carga de presentar documentos creados en forma voluntaria para control fisc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693360"/>
            <a:ext cx="733896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0c226"/>
                </a:solidFill>
                <a:latin typeface="Trebuchet MS"/>
              </a:rPr>
              <a:t>Procedimiento de captación y/o colecta del dato: Medidas preparatorias: Actas de requerimiento</a:t>
            </a:r>
            <a:br>
              <a:rPr sz="3200"/>
            </a:br>
            <a:endParaRPr b="0" lang="en-US" sz="3200" spc="-1" strike="noStrike">
              <a:solidFill>
                <a:srgbClr val="90c226"/>
              </a:solidFill>
              <a:latin typeface="Trebuchet MS"/>
            </a:endParaRPr>
          </a:p>
        </p:txBody>
      </p:sp>
      <p:sp>
        <p:nvSpPr>
          <p:cNvPr id="242" name=""/>
          <p:cNvSpPr txBox="1"/>
          <p:nvPr/>
        </p:nvSpPr>
        <p:spPr>
          <a:xfrm>
            <a:off x="533520" y="2496960"/>
            <a:ext cx="6729120" cy="4361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portación de datos del contribuyente (DDJJ, libros balanc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Suministro de datos por circularización con terceros vinculados al HI (bancos, proveedor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Información</a:t>
            </a:r>
            <a:r>
              <a:rPr b="0" lang="es-AR" sz="1800" spc="-1" strike="noStrike">
                <a:solidFill>
                  <a:srgbClr val="404040"/>
                </a:solidFill>
                <a:latin typeface="Trebuchet MS"/>
              </a:rPr>
              <a:t>: citación al contribuyente para que informe encuadramiento de activida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Actas de constatación</a:t>
            </a:r>
            <a:r>
              <a:rPr b="0" lang="es-AR" sz="1800" spc="-1" strike="noStrike">
                <a:solidFill>
                  <a:srgbClr val="404040"/>
                </a:solidFill>
                <a:latin typeface="Trebuchet MS"/>
              </a:rPr>
              <a:t>: constatan hechos sucedidos entre apertura y cierr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Inspector</a:t>
            </a:r>
            <a:r>
              <a:rPr b="0" lang="es-AR" sz="1800" spc="-1" strike="noStrike">
                <a:solidFill>
                  <a:srgbClr val="404040"/>
                </a:solidFill>
                <a:latin typeface="Trebuchet MS"/>
              </a:rPr>
              <a:t>: verifica situación objetiva preexistente vinculada al HI investigado, no investiga conductas. Obstrucción: faculta a pedir al juez orden legal de allanamiento.-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54200" y="885600"/>
            <a:ext cx="4587840" cy="726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Limites de partes</a:t>
            </a:r>
            <a:endParaRPr b="0" lang="en-US" sz="3600" spc="-1" strike="noStrike">
              <a:solidFill>
                <a:srgbClr val="90c226"/>
              </a:solidFill>
              <a:latin typeface="Trebuchet MS"/>
            </a:endParaRPr>
          </a:p>
        </p:txBody>
      </p:sp>
      <p:sp>
        <p:nvSpPr>
          <p:cNvPr id="244" name=""/>
          <p:cNvSpPr txBox="1"/>
          <p:nvPr/>
        </p:nvSpPr>
        <p:spPr>
          <a:xfrm>
            <a:off x="754200" y="2136600"/>
            <a:ext cx="6348240" cy="38800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Rayford” 1986, prueba material de cargo sin orden administrativa previa (teoría de la induc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CPACF” si datos identificatorios, no datos de intimidad económica (ds. personalísimos –control del contribuyente en la captación del dat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De Soto” no afecta el derecho de defensa del contrib. llevado a sumario, no informar previamente que puede contar con asistencia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NCP “Florido” obligación de suministro de datos no alcanzada por prohibición de autoincriminación, salvo personalísimos, intimidad económica, no vinculados con HI.-</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28400" y="657360"/>
            <a:ext cx="7283160" cy="576720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Interpretación (camino de noticia administrativa –dato colectado- a opinión administrativa): Principio de realidad económica: va a la esencia del hecho gravado por afuera de ropaje formal (CS Parke Davis – Kelloggs); por inconsistencias entre declarado y verificado, dicha colecta de datos genera presunciones legales -opinión administrativa- rebatibles en el procedimiento tributario por prueba en contrario.-</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lazo no tiene (Habeas data -43 CN-, JCAF 3, Sec 5, 2/11/95 “Yabrán”, pena de publicidad, Plazo razonable: CS “Lociser”, CIDH “Almonacid”, “Baena”, “Claude Reyes”, las garantías se aplican a los procedimientos administrativ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A favor: solicitar medidas para mejor proveer, ampliación del cargo por interés público y verdad material (principio legalidad objetiva).- </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resunciones de interés fiscal por diferencias de verificación, informe final (actos preparatori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TERMINATIVO DE OFICIO</a:t>
            </a:r>
            <a:endParaRPr b="0" lang="en-US" sz="3600" spc="-1" strike="noStrike">
              <a:solidFill>
                <a:srgbClr val="90c226"/>
              </a:solidFill>
              <a:latin typeface="Trebuchet MS"/>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Vista: genera descargo contra los cargos fiscales. Derecho a ofrecer y producir prueba para obtener una resolución motivada y válida-</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Determinación de oficio: intima obligación de dar por diferencias por deuda material, sumario conexo por conducta omisiva o defraudatoria, interés accesorio a la obligación.-</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6c911d"/>
                </a:solidFill>
                <a:uFillTx/>
                <a:latin typeface="Trebuchet MS"/>
              </a:rPr>
              <a:t>PRECEDIMIENTO REVISOR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Estándares:</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Reconsideración y jerárquico en subsidi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Reconsideración o apelación al TF (principios derecho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833040" y="552240"/>
            <a:ext cx="6297480" cy="12207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DIMIENTO ADMINISTRATIVO: cause formal de la actuación de la Administra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SO JUDICIAL: cause formal de la Justicia.</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5" name="Título 1"/>
          <p:cNvSpPr/>
          <p:nvPr/>
        </p:nvSpPr>
        <p:spPr>
          <a:xfrm>
            <a:off x="833400" y="1849320"/>
            <a:ext cx="6053040" cy="5144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u="sng">
                <a:solidFill>
                  <a:srgbClr val="90c226"/>
                </a:solidFill>
                <a:uFillTx/>
                <a:latin typeface="Trebuchet MS"/>
              </a:rPr>
              <a:t>DIFERENCIAS</a:t>
            </a:r>
            <a:endParaRPr b="0" lang="en-US" sz="2700" spc="-1" strike="noStrike">
              <a:solidFill>
                <a:srgbClr val="000000"/>
              </a:solidFill>
              <a:latin typeface="Trebuchet MS"/>
            </a:endParaRPr>
          </a:p>
        </p:txBody>
      </p:sp>
      <p:sp>
        <p:nvSpPr>
          <p:cNvPr id="216" name="Título 1"/>
          <p:cNvSpPr/>
          <p:nvPr/>
        </p:nvSpPr>
        <p:spPr>
          <a:xfrm>
            <a:off x="336600" y="3116160"/>
            <a:ext cx="7628040" cy="3500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17" name="Marcador de contenido 2"/>
          <p:cNvSpPr/>
          <p:nvPr/>
        </p:nvSpPr>
        <p:spPr>
          <a:xfrm>
            <a:off x="833400" y="3267000"/>
            <a:ext cx="6297480" cy="122076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18" name="Rectángulo 7" descr=""/>
          <p:cNvPicPr/>
          <p:nvPr/>
        </p:nvPicPr>
        <p:blipFill>
          <a:blip r:embed="rId1"/>
          <a:stretch/>
        </p:blipFill>
        <p:spPr>
          <a:xfrm>
            <a:off x="-216000" y="2527200"/>
            <a:ext cx="7810560" cy="420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JUDICIAL</a:t>
            </a:r>
            <a:endParaRPr b="0" lang="en-US" sz="3600" spc="-1" strike="noStrike">
              <a:solidFill>
                <a:srgbClr val="90c226"/>
              </a:solidFill>
              <a:latin typeface="Trebuchet MS"/>
            </a:endParaRPr>
          </a:p>
        </p:txBody>
      </p:sp>
      <p:sp>
        <p:nvSpPr>
          <p:cNvPr id="249" name=""/>
          <p:cNvSpPr txBox="1"/>
          <p:nvPr/>
        </p:nvSpPr>
        <p:spPr>
          <a:xfrm>
            <a:off x="609120" y="1498320"/>
            <a:ext cx="6645240" cy="4313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1.- Ejecución fiscal (apremio).</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2.- Apelación ante Cámaras de Apelación Contenciosa de Resoluciones del TFN (seguro de caución). SCBA “Orbis”. Plazo de caducidad.-</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3.- Impugnación de acto administrativo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4.- Amparo o acción declarativa de inconstitucionalidad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50" name="CuadroTexto 3"/>
          <p:cNvSpPr/>
          <p:nvPr/>
        </p:nvSpPr>
        <p:spPr>
          <a:xfrm>
            <a:off x="5423040" y="5973840"/>
            <a:ext cx="36129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rebuchet MS"/>
              </a:rPr>
              <a:t>jorgematinata@gmail.com</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Trebuchet MS"/>
              </a:rPr>
              <a:t>MUCHAS GRACIA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440760" cy="677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CLASES DE PROCEDIMIENTO</a:t>
            </a:r>
            <a:endParaRPr b="0" lang="en-US" sz="3600" spc="-1" strike="noStrike">
              <a:solidFill>
                <a:srgbClr val="90c226"/>
              </a:solidFill>
              <a:latin typeface="Trebuchet MS"/>
            </a:endParaRPr>
          </a:p>
        </p:txBody>
      </p:sp>
      <p:sp>
        <p:nvSpPr>
          <p:cNvPr id="220" name=""/>
          <p:cNvSpPr txBox="1"/>
          <p:nvPr/>
        </p:nvSpPr>
        <p:spPr>
          <a:xfrm>
            <a:off x="609120" y="1455480"/>
            <a:ext cx="6634440" cy="4586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t>
            </a:r>
            <a:r>
              <a:rPr b="0" lang="es-AR" sz="1800" spc="-1" strike="noStrike" u="sng">
                <a:solidFill>
                  <a:srgbClr val="404040"/>
                </a:solidFill>
                <a:uFillTx/>
                <a:latin typeface="Trebuchet MS"/>
              </a:rPr>
              <a:t>Constitutivo</a:t>
            </a:r>
            <a:r>
              <a:rPr b="0" lang="es-AR" sz="1800" spc="-1" strike="noStrike">
                <a:solidFill>
                  <a:srgbClr val="404040"/>
                </a:solidFill>
                <a:latin typeface="Trebuchet MS"/>
              </a:rPr>
              <a:t>: Acto que crea, modifica o extingue un derech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a:t>
            </a:r>
            <a:r>
              <a:rPr b="0" lang="es-AR" sz="1800" spc="-1" strike="noStrike" u="sng">
                <a:solidFill>
                  <a:srgbClr val="404040"/>
                </a:solidFill>
                <a:uFillTx/>
                <a:latin typeface="Trebuchet MS"/>
              </a:rPr>
              <a:t>Declarativo</a:t>
            </a:r>
            <a:r>
              <a:rPr b="0" lang="es-AR" sz="1800" spc="-1" strike="noStrike">
                <a:solidFill>
                  <a:srgbClr val="404040"/>
                </a:solidFill>
                <a:latin typeface="Trebuchet MS"/>
              </a:rPr>
              <a:t>: Acto que reconoce un derecho preexist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Técnico, Interno, de oficio o gestión</a:t>
            </a:r>
            <a:r>
              <a:rPr b="0" lang="es-AR" sz="1800" spc="-1" strike="noStrike">
                <a:solidFill>
                  <a:srgbClr val="404040"/>
                </a:solidFill>
                <a:latin typeface="Trebuchet MS"/>
              </a:rPr>
              <a:t>: Acto consultivo preparatorio de un acto administrativo (informes, dictámenes –son obligatorios y no vinculant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4.- </a:t>
            </a:r>
            <a:r>
              <a:rPr b="0" lang="es-AR" sz="1800" spc="-1" strike="noStrike" u="sng">
                <a:solidFill>
                  <a:srgbClr val="404040"/>
                </a:solidFill>
                <a:uFillTx/>
                <a:latin typeface="Trebuchet MS"/>
              </a:rPr>
              <a:t>Ejecutivo</a:t>
            </a:r>
            <a:r>
              <a:rPr b="0" lang="es-AR" sz="1800" spc="-1" strike="noStrike">
                <a:solidFill>
                  <a:srgbClr val="404040"/>
                </a:solidFill>
                <a:latin typeface="Trebuchet MS"/>
              </a:rPr>
              <a:t>: Acto que intima el cumplimiento de una obligación de dar, hacer o no hacer.-</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5.- </a:t>
            </a:r>
            <a:r>
              <a:rPr b="0" lang="es-AR" sz="1800" spc="-1" strike="noStrike" u="sng">
                <a:solidFill>
                  <a:srgbClr val="404040"/>
                </a:solidFill>
                <a:uFillTx/>
                <a:latin typeface="Trebuchet MS"/>
              </a:rPr>
              <a:t>Sancionatorio</a:t>
            </a:r>
            <a:r>
              <a:rPr b="0" lang="es-AR" sz="1800" spc="-1" strike="noStrike">
                <a:solidFill>
                  <a:srgbClr val="404040"/>
                </a:solidFill>
                <a:latin typeface="Trebuchet MS"/>
              </a:rPr>
              <a:t>: Acto que sanciona un incumplimiento a una obligación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6.- </a:t>
            </a:r>
            <a:r>
              <a:rPr b="0" lang="es-AR" sz="1800" spc="-1" strike="noStrike" u="sng">
                <a:solidFill>
                  <a:srgbClr val="404040"/>
                </a:solidFill>
                <a:uFillTx/>
                <a:latin typeface="Trebuchet MS"/>
              </a:rPr>
              <a:t>Impugnación</a:t>
            </a:r>
            <a:r>
              <a:rPr b="0" lang="es-AR" sz="1800" spc="-1" strike="noStrike">
                <a:solidFill>
                  <a:srgbClr val="404040"/>
                </a:solidFill>
                <a:latin typeface="Trebuchet MS"/>
              </a:rPr>
              <a:t>: Acto que efectúa el control de legalidad del acto originari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609120"/>
            <a:ext cx="7086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Principios del Derecho Administrativo </a:t>
            </a:r>
            <a:br>
              <a:rPr sz="3200"/>
            </a:br>
            <a:r>
              <a:rPr b="0" lang="en-US" sz="2800" spc="-1" strike="noStrike">
                <a:solidFill>
                  <a:srgbClr val="90c226"/>
                </a:solidFill>
                <a:latin typeface="Trebuchet MS"/>
              </a:rPr>
              <a:t>(aplicables al Procedimiento Tributario)</a:t>
            </a:r>
            <a:br>
              <a:rPr sz="2800"/>
            </a:br>
            <a:endParaRPr b="0" lang="en-US" sz="2800" spc="-1" strike="noStrike">
              <a:solidFill>
                <a:srgbClr val="90c226"/>
              </a:solidFill>
              <a:latin typeface="Trebuchet MS"/>
            </a:endParaRPr>
          </a:p>
        </p:txBody>
      </p:sp>
      <p:sp>
        <p:nvSpPr>
          <p:cNvPr id="222" name=""/>
          <p:cNvSpPr txBox="1"/>
          <p:nvPr/>
        </p:nvSpPr>
        <p:spPr>
          <a:xfrm>
            <a:off x="228240" y="1816200"/>
            <a:ext cx="7351560" cy="4225680"/>
          </a:xfrm>
          <a:prstGeom prst="rect">
            <a:avLst/>
          </a:prstGeom>
          <a:noFill/>
          <a:ln w="0">
            <a:noFill/>
          </a:ln>
        </p:spPr>
        <p:txBody>
          <a:bodyPr anchor="t">
            <a:normAutofit fontScale="99000"/>
          </a:bodyPr>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a:t>
            </a:r>
            <a:r>
              <a:rPr b="0" lang="en-US" sz="1700" spc="-1" strike="noStrike" u="sng">
                <a:solidFill>
                  <a:srgbClr val="404040"/>
                </a:solidFill>
                <a:uFillTx/>
                <a:latin typeface="Trebuchet MS"/>
              </a:rPr>
              <a:t>.- Buena fe</a:t>
            </a:r>
            <a:r>
              <a:rPr b="0" lang="en-US" sz="1700" spc="-1" strike="noStrike">
                <a:solidFill>
                  <a:srgbClr val="404040"/>
                </a:solidFill>
                <a:latin typeface="Trebuchet MS"/>
              </a:rPr>
              <a:t>: arts. 2. 9 y ccds. CCC (de integración analógica), para reparar la propia torpeza (AUTOTUTELA - CONTROL DE LEGALIDAD), anulando por si y ante si el acto.-</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t>
            </a:r>
            <a:r>
              <a:rPr b="0" lang="en-US" sz="1700" spc="-1" strike="noStrike" u="sng">
                <a:solidFill>
                  <a:srgbClr val="404040"/>
                </a:solidFill>
                <a:uFillTx/>
                <a:latin typeface="Trebuchet MS"/>
              </a:rPr>
              <a:t>Razonabilidad</a:t>
            </a:r>
            <a:r>
              <a:rPr b="0" lang="en-US" sz="1700" spc="-1" strike="noStrike">
                <a:solidFill>
                  <a:srgbClr val="404040"/>
                </a:solidFill>
                <a:latin typeface="Trebuchet MS"/>
              </a:rPr>
              <a:t>: (art. 28 CN) Los pasos del procedimiento y los elementos que integran sus actos (causa, objeto, motivación y finalidad) deben tener una relación de racionabilidad y proporcionalidad entre si (valoración de la prueba).-</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a:t>
            </a:r>
            <a:r>
              <a:rPr b="0" lang="en-US" sz="1700" spc="-1" strike="noStrike" u="sng">
                <a:solidFill>
                  <a:srgbClr val="404040"/>
                </a:solidFill>
                <a:uFillTx/>
                <a:latin typeface="Trebuchet MS"/>
              </a:rPr>
              <a:t>Verdad Material</a:t>
            </a:r>
            <a:r>
              <a:rPr b="0" lang="en-US" sz="1700" spc="-1" strike="noStrike">
                <a:solidFill>
                  <a:srgbClr val="404040"/>
                </a:solidFill>
                <a:latin typeface="Trebuchet MS"/>
              </a:rPr>
              <a:t>: Por interés público involucrado, procedimiento inquisitivo, de oficio, para verdad real (requer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t>
            </a:r>
            <a:r>
              <a:rPr b="0" lang="en-US" sz="1700" spc="-1" strike="noStrike" u="sng">
                <a:solidFill>
                  <a:srgbClr val="404040"/>
                </a:solidFill>
                <a:uFillTx/>
                <a:latin typeface="Trebuchet MS"/>
              </a:rPr>
              <a:t>Impulso de Oficio</a:t>
            </a:r>
            <a:r>
              <a:rPr b="0" lang="en-US" sz="1700" spc="-1" strike="noStrike">
                <a:solidFill>
                  <a:srgbClr val="404040"/>
                </a:solidFill>
                <a:latin typeface="Trebuchet MS"/>
              </a:rPr>
              <a:t>: ligado a la búsqueda de la verdad material (facultades inquisitivas).- </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a:t>
            </a:r>
            <a:r>
              <a:rPr b="0" lang="en-US" sz="1700" spc="-1" strike="noStrike" u="sng">
                <a:solidFill>
                  <a:srgbClr val="404040"/>
                </a:solidFill>
                <a:uFillTx/>
                <a:latin typeface="Trebuchet MS"/>
              </a:rPr>
              <a:t>Informalismo (o rigor formal atenuado)</a:t>
            </a:r>
            <a:r>
              <a:rPr b="0" lang="en-US" sz="1700" spc="-1" strike="noStrike">
                <a:solidFill>
                  <a:srgbClr val="404040"/>
                </a:solidFill>
                <a:latin typeface="Trebuchet MS"/>
              </a:rPr>
              <a:t>: Garantiza la igualdad de parte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a:t>
            </a:r>
            <a:r>
              <a:rPr b="0" lang="en-US" sz="1700" spc="-1" strike="noStrike" u="sng">
                <a:solidFill>
                  <a:srgbClr val="404040"/>
                </a:solidFill>
                <a:uFillTx/>
                <a:latin typeface="Trebuchet MS"/>
              </a:rPr>
              <a:t>Celeridad, economía, eficacia</a:t>
            </a:r>
            <a:r>
              <a:rPr b="0" lang="en-US" sz="1700" spc="-1" strike="noStrike">
                <a:solidFill>
                  <a:srgbClr val="404040"/>
                </a:solidFill>
                <a:latin typeface="Trebuchet MS"/>
              </a:rPr>
              <a:t>: formularios que simplifican proced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96640" y="752400"/>
            <a:ext cx="7126200" cy="53834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7</a:t>
            </a:r>
            <a:r>
              <a:rPr b="0" lang="en-US" sz="1800" spc="-1" strike="noStrike" u="sng">
                <a:solidFill>
                  <a:srgbClr val="404040"/>
                </a:solidFill>
                <a:uFillTx/>
                <a:latin typeface="Trebuchet MS"/>
              </a:rPr>
              <a:t>.- Debido Proceso adjetivo y sustantivo</a:t>
            </a:r>
            <a:r>
              <a:rPr b="0" lang="en-US" sz="1800" spc="-1" strike="noStrike">
                <a:solidFill>
                  <a:srgbClr val="404040"/>
                </a:solidFill>
                <a:latin typeface="Trebuchet MS"/>
              </a:rPr>
              <a:t>: involucra Ser oído, ofrecer y producir prueba, acto válido y eficaz. Notificación. Recursos. Plazos (CSJN “Astorga Bratch”, no renunciar a recurso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8.- </a:t>
            </a:r>
            <a:r>
              <a:rPr b="0" lang="en-US" sz="1800" spc="-1" strike="noStrike" u="sng">
                <a:solidFill>
                  <a:srgbClr val="404040"/>
                </a:solidFill>
                <a:uFillTx/>
                <a:latin typeface="Trebuchet MS"/>
              </a:rPr>
              <a:t>Gratuidad</a:t>
            </a:r>
            <a:r>
              <a:rPr b="0" lang="en-US" sz="1800" spc="-1" strike="noStrike">
                <a:solidFill>
                  <a:srgbClr val="404040"/>
                </a:solidFill>
                <a:latin typeface="Trebuchet MS"/>
              </a:rPr>
              <a:t>: hace a garantía de defensa, hay interés público de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9.- </a:t>
            </a:r>
            <a:r>
              <a:rPr b="0" lang="en-US" sz="1800" spc="-1" strike="noStrike" u="sng">
                <a:solidFill>
                  <a:srgbClr val="404040"/>
                </a:solidFill>
                <a:uFillTx/>
                <a:latin typeface="Trebuchet MS"/>
              </a:rPr>
              <a:t>No contradicción</a:t>
            </a:r>
            <a:r>
              <a:rPr b="0" lang="en-US" sz="1800" spc="-1" strike="noStrike">
                <a:solidFill>
                  <a:srgbClr val="404040"/>
                </a:solidFill>
                <a:latin typeface="Trebuchet MS"/>
              </a:rPr>
              <a:t>: el particular colabora en la búsqueda de verdad material. Para algunos autores el Procedimiento de determinación de oficio es contradictorio, exigiendo imparcialidad del juez administrativo por la tensión con las pretensiones del contribuyente. </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0.- </a:t>
            </a:r>
            <a:r>
              <a:rPr b="0" lang="en-US" sz="1800" spc="-1" strike="noStrike" u="sng">
                <a:solidFill>
                  <a:srgbClr val="404040"/>
                </a:solidFill>
                <a:uFillTx/>
                <a:latin typeface="Trebuchet MS"/>
              </a:rPr>
              <a:t>Imparcialidad</a:t>
            </a:r>
            <a:r>
              <a:rPr b="0" lang="en-US" sz="1800" spc="-1" strike="noStrike">
                <a:solidFill>
                  <a:srgbClr val="404040"/>
                </a:solidFill>
                <a:latin typeface="Trebuchet MS"/>
              </a:rPr>
              <a:t>: Recusación y excusación son herramientas auxiliare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1.- </a:t>
            </a:r>
            <a:r>
              <a:rPr b="0" lang="en-US" sz="1800" spc="-1" strike="noStrike" u="sng">
                <a:solidFill>
                  <a:srgbClr val="404040"/>
                </a:solidFill>
                <a:uFillTx/>
                <a:latin typeface="Trebuchet MS"/>
              </a:rPr>
              <a:t>Transparencia</a:t>
            </a:r>
            <a:r>
              <a:rPr b="0" lang="en-US" sz="1800" spc="-1" strike="noStrike">
                <a:solidFill>
                  <a:srgbClr val="404040"/>
                </a:solidFill>
                <a:latin typeface="Trebuchet MS"/>
              </a:rPr>
              <a:t>: Publicidad del procedimiento – vista de parte (CSJN “Oxly” nulidad por negativa a conocer un acto preparatorio) – acceso a la información.-</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2.- </a:t>
            </a:r>
            <a:r>
              <a:rPr b="0" lang="en-US" sz="1800" spc="-1" strike="noStrike" u="sng">
                <a:solidFill>
                  <a:srgbClr val="404040"/>
                </a:solidFill>
                <a:uFillTx/>
                <a:latin typeface="Trebuchet MS"/>
              </a:rPr>
              <a:t>Legalidad objetiva</a:t>
            </a:r>
            <a:r>
              <a:rPr b="0" lang="en-US" sz="1800" spc="-1" strike="noStrike">
                <a:solidFill>
                  <a:srgbClr val="404040"/>
                </a:solidFill>
                <a:latin typeface="Trebuchet MS"/>
              </a:rPr>
              <a:t>: ordenar medidas de prueba para llegar a la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4645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a:solidFill>
                  <a:srgbClr val="90c226"/>
                </a:solidFill>
                <a:latin typeface="Trebuchet MS"/>
              </a:rPr>
              <a:t>El tiempo en el Procedimiento </a:t>
            </a:r>
            <a:r>
              <a:rPr b="0" lang="es-AR" sz="3200" spc="-1" strike="noStrike">
                <a:solidFill>
                  <a:srgbClr val="90c226"/>
                </a:solidFill>
                <a:latin typeface="Trebuchet MS"/>
              </a:rPr>
              <a:t>(PLAZOS)</a:t>
            </a:r>
            <a:endParaRPr b="0" lang="en-US" sz="3200" spc="-1" strike="noStrike">
              <a:solidFill>
                <a:srgbClr val="90c226"/>
              </a:solidFill>
              <a:latin typeface="Trebuchet MS"/>
            </a:endParaRPr>
          </a:p>
        </p:txBody>
      </p:sp>
      <p:sp>
        <p:nvSpPr>
          <p:cNvPr id="225" name=""/>
          <p:cNvSpPr txBox="1"/>
          <p:nvPr/>
        </p:nvSpPr>
        <p:spPr>
          <a:xfrm>
            <a:off x="609120" y="1798560"/>
            <a:ext cx="6777000" cy="45309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on ordenatorios para la administración y obligatorios para las partes.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igorismo moderado (informalidad): no aplica preclusión.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lazo razonable para resolver: CS “Lociser”, ponderar conducta de las partes, del juez, complejidad del asunto y análisis global del procedimiento. (Habeas data -43 CN-, JCAF 3, Sec 5, 2/11/95 “Yabrán”).-</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Vias revisoras en procedimiento determinativo</a:t>
            </a: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ecursos: Suspende plazos, Reclamo Interrumpe.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Denuncia de Ilegitimidad: presunción de abandono de un derech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CSJN “Gorordo”: Irrazonable equiparar la denuncia de ilegitimidad con recurso planteado en términ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ilencio: No es automátic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ronto despacho: La administración debe expedirse. No hay caducidad del procedimiento por silencio (CSJN “Biosistem”).-</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640" y="609120"/>
            <a:ext cx="75438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u="sng">
                <a:solidFill>
                  <a:srgbClr val="90c226"/>
                </a:solidFill>
                <a:uFillTx/>
                <a:latin typeface="Trebuchet MS"/>
              </a:rPr>
              <a:t>ACTO ADMINISTRATIVO</a:t>
            </a:r>
            <a:r>
              <a:rPr b="1" i="1" lang="en-US" sz="3200" spc="-1" strike="noStrike">
                <a:solidFill>
                  <a:srgbClr val="90c226"/>
                </a:solidFill>
                <a:latin typeface="Trebuchet MS"/>
              </a:rPr>
              <a:t> </a:t>
            </a:r>
            <a:br>
              <a:rPr sz="3200"/>
            </a:br>
            <a:r>
              <a:rPr b="1" i="1" lang="en-US" sz="3200" spc="-1" strike="noStrike">
                <a:solidFill>
                  <a:srgbClr val="90c226"/>
                </a:solidFill>
                <a:latin typeface="Trebuchet MS"/>
              </a:rPr>
              <a:t>ELEMENTOS DE VALIDEZ Y EFICACIA</a:t>
            </a:r>
            <a:endParaRPr b="0" lang="en-US" sz="3200" spc="-1" strike="noStrike">
              <a:solidFill>
                <a:srgbClr val="90c226"/>
              </a:solidFill>
              <a:latin typeface="Trebuchet MS"/>
            </a:endParaRPr>
          </a:p>
        </p:txBody>
      </p:sp>
      <p:sp>
        <p:nvSpPr>
          <p:cNvPr id="227" name=""/>
          <p:cNvSpPr txBox="1"/>
          <p:nvPr/>
        </p:nvSpPr>
        <p:spPr>
          <a:xfrm>
            <a:off x="609120" y="1666800"/>
            <a:ext cx="6348600" cy="10288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Trebuchet MS"/>
              </a:rPr>
              <a:t>Sumisión de la Administración al principio de legalidad, se presume legítimo y ejecutoriable por si mismo, salvo vicios manifiestos (CSJN “Pustelnik”)</a:t>
            </a:r>
            <a:endParaRPr b="0" lang="en-US" sz="16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p:txBody>
      </p:sp>
      <p:sp>
        <p:nvSpPr>
          <p:cNvPr id="228" name="Marcador de contenido 2"/>
          <p:cNvSpPr/>
          <p:nvPr/>
        </p:nvSpPr>
        <p:spPr>
          <a:xfrm>
            <a:off x="609480" y="2725560"/>
            <a:ext cx="7042320" cy="39164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u="sng">
                <a:solidFill>
                  <a:srgbClr val="404040"/>
                </a:solidFill>
                <a:uFillTx/>
                <a:latin typeface="Trebuchet MS"/>
              </a:rPr>
              <a:t>ESENCIALES</a:t>
            </a:r>
            <a:r>
              <a:rPr b="1" lang="en-US" sz="1400" spc="-1" strike="noStrike">
                <a:solidFill>
                  <a:srgbClr val="404040"/>
                </a:solidFill>
                <a:latin typeface="Trebuchet MS"/>
              </a:rPr>
              <a:t> (INVOLUCRA EL INTERÉS PÚBLICO – ACTO IRREGULAR – NULIDAD ABSOLUTA –EX TUNC –DESDE SIEMPRE-)</a:t>
            </a:r>
            <a:endParaRPr b="0" lang="en-US" sz="1400" spc="-1" strike="noStrike">
              <a:solidFill>
                <a:srgbClr val="00000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404040"/>
                </a:solidFill>
                <a:uFillTx/>
                <a:latin typeface="Trebuchet MS"/>
              </a:rPr>
              <a:t>1.- COMPETENCIA</a:t>
            </a:r>
            <a:r>
              <a:rPr b="0" lang="en-US" sz="1400" spc="-1" strike="noStrike">
                <a:solidFill>
                  <a:srgbClr val="404040"/>
                </a:solidFill>
                <a:latin typeface="Trebuchet MS"/>
              </a:rPr>
              <a:t>: elemento reglado, enmarcado en ley previa: Por materia –especialidad, coordinación-, grado –jerarquía-, tiempo –vigencia-, territorio.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Materia: Ley de Ministerios.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Grado: estructura jerárquica de la organización, competencia implícita (CS “Font”), Ppio de especialidad (CS “Angel Estrad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iempo: cuando lo dicta -momento de validez-.-</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erritorio: donde lo dict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materia y territorio: nulidad absoluta (ex tunc).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grado y tiempo: nulidad relativa (ex nunc), acto subsanable por avocación, delegación, sustitución: subsanable –ratificación, confirmación, conversión-.</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Doctrina de la subsanación en sede judicial –CSJN Duperial-, se abre a prueba.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64760" y="476280"/>
            <a:ext cx="6970680" cy="596088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2.- CAUSA (vistos y considerandos)</a:t>
            </a:r>
            <a:r>
              <a:rPr b="0" i="1" lang="en-US" sz="1500" spc="-1" strike="noStrike">
                <a:solidFill>
                  <a:srgbClr val="404040"/>
                </a:solidFill>
                <a:latin typeface="Trebuchet MS"/>
              </a:rPr>
              <a:t>: </a:t>
            </a:r>
            <a:r>
              <a:rPr b="0" lang="en-US" sz="1500" spc="-1" strike="noStrike">
                <a:solidFill>
                  <a:srgbClr val="404040"/>
                </a:solidFill>
                <a:latin typeface="Trebuchet MS"/>
              </a:rPr>
              <a:t>elemento reglado, (por que lo dicta: hechos, derechos antecedentes objetivos); debe tener una relación de racionalidad y proporcionalidad entre si con el objeto, el motivo y la finalidad del acto.-</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3.- PROCEDIMIENTO</a:t>
            </a:r>
            <a:r>
              <a:rPr b="0" i="1" lang="en-US" sz="1500" spc="-1" strike="noStrike">
                <a:solidFill>
                  <a:srgbClr val="404040"/>
                </a:solidFill>
                <a:latin typeface="Trebuchet MS"/>
              </a:rPr>
              <a:t>: </a:t>
            </a:r>
            <a:r>
              <a:rPr b="0" lang="en-US" sz="1500" spc="-1" strike="noStrike">
                <a:solidFill>
                  <a:srgbClr val="404040"/>
                </a:solidFill>
                <a:latin typeface="Trebuchet MS"/>
              </a:rPr>
              <a:t>(considerando). Elemento reglado. Debido proceso adjetivo, tomar vista (CSJN “Oxly”: niega vista de documento, agravia defensa), dictamen jurídico previo (acto preparatorio obligatorio no vinculante ni impugnable).-</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4.- MOTIVACIÓN (considerandos)</a:t>
            </a:r>
            <a:r>
              <a:rPr b="0" lang="en-US" sz="1500" spc="-1" strike="noStrike">
                <a:solidFill>
                  <a:srgbClr val="404040"/>
                </a:solidFill>
                <a:latin typeface="Trebuchet MS"/>
              </a:rPr>
              <a:t>: por que lo dicta (causa) y para que lo dicta (finalidad). Hace al derecho de defensa y al control del acto, explica motivos del acto, fundamenta el rechazo y la aceptación de la prueba para asegurar la garantía de defensa. Debe tener una relación de racionalidad y proporcionalidad entre si con la finalidad, la causa y el objeto del acto.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chnaiderman”, el control judicial de actos administrativos incluye reglados y discrecionales en un examen de legalidad y razonabilidad;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ilva Tamayo”: las facultades discrecionales no pueden justificar conducta arbitraria.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IDH “López Mendoza”: el alcance de la discrecionalidad y la manera de ejercerla debe indicarse con claridad para resguardar la garantía de defensa. Incorpora como estándar el Test de razonabilidad para evitar abusos y guarecer la garantía de defensa.-</a:t>
            </a:r>
            <a:endParaRPr b="0" lang="en-US" sz="15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01120" y="741240"/>
            <a:ext cx="6861240" cy="54309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5.- OBJETO (resultandos)</a:t>
            </a:r>
            <a:r>
              <a:rPr b="0" i="1" lang="en-US" sz="1800" spc="-1" strike="noStrike">
                <a:solidFill>
                  <a:srgbClr val="404040"/>
                </a:solidFill>
                <a:latin typeface="Trebuchet MS"/>
              </a:rPr>
              <a:t>: </a:t>
            </a:r>
            <a:r>
              <a:rPr b="0" lang="en-US" sz="1800" spc="-1" strike="noStrike">
                <a:solidFill>
                  <a:srgbClr val="404040"/>
                </a:solidFill>
                <a:latin typeface="Trebuchet MS"/>
              </a:rPr>
              <a:t>elemento reglado, no prohibido. Crea, modifica o extingue derechos en términos directos e inmediatos (impugna DDJJ); intima cumplimiento de obligación de dar, hacer o no hacer. Debe tener una relación de racionalidad y proporcionalidad entre si con el motivo, la finalidad y la causa del act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6.- FINALIDAD</a:t>
            </a:r>
            <a:r>
              <a:rPr b="0" lang="en-US" sz="1800" spc="-1" strike="noStrike">
                <a:solidFill>
                  <a:srgbClr val="404040"/>
                </a:solidFill>
                <a:latin typeface="Trebuchet MS"/>
              </a:rPr>
              <a:t>: Reglado - para que lo dicta. Finalidad de la norma. Evita un desvío del poder (CS “Ramos”). Debe tener una relación de racionalidad y proporcionalidad entre si con el motivo, la causa y el objeto del acto. Garantiza la prestación del servicio en condiciones continuas, regulares y transparentes.-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7.- FORMA DEL ACTO</a:t>
            </a:r>
            <a:r>
              <a:rPr b="0" lang="en-US" sz="1800" spc="-1" strike="noStrike">
                <a:solidFill>
                  <a:srgbClr val="404040"/>
                </a:solidFill>
                <a:latin typeface="Trebuchet MS"/>
              </a:rPr>
              <a:t>: Instrumental: Como lo dicta: lugar, fecha, vistos, considerando, resuelvo, firma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29T13:41:07Z</dcterms:created>
  <dc:creator>Maria Lujan Alza</dc:creator>
  <dc:description/>
  <dc:language>en-US</dc:language>
  <cp:lastModifiedBy>L. Marcelo Nuñez</cp:lastModifiedBy>
  <dcterms:modified xsi:type="dcterms:W3CDTF">2024-08-06T11:22:43Z</dcterms:modified>
  <cp:revision>16</cp:revision>
  <dc:subject/>
  <dc:title>PROCEDIMIENTO ADMINISTRATIVO  DE CAPTACIÓN DEL DATO DE CONTENIDO FISCAL</dc:title>
</cp:coreProperties>
</file>